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bomb.wav" ContentType="audio/x-wav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B8B6-3821-445B-9BD7-C955C050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FCB0-4938-432B-BDD6-12455F39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4412-5B69-4881-BDDA-3E5062F5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8430-6FB2-46E5-B559-B21653003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EE3ED-5310-4DC6-8CB8-F4749DFE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CC8E-2A85-4162-94A5-9BEB7196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1CA0-CC19-4E7C-9A08-5194DB91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E585-7550-4868-A02F-DD3BF696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6B18D-9ACE-4376-9037-4D78246D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A10E8-C0FE-47E1-9230-D271DCCA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DEB8-5CD4-4850-ACE2-A7CD7761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7525-F6A7-49CE-B1AD-F59CCC16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F7DF-8295-4119-888C-E5260949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55DB-83F8-4EC0-A189-C20B1885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B75C7-97CC-4B8D-A840-F974DF5F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EC618-D7E8-41B1-9E91-E3BBD3EC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A2CE-E427-4DE3-958F-D47B86EC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535-BF36-4A6F-BA14-8E0D5EC3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D528-1781-4D6B-9CBE-4EA7C715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4D9-8E0A-46C6-BA1F-8F125944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85F-8222-409B-8A40-3392BD92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09A-3F98-4CB0-BD52-941E1516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E36-B441-4049-A12D-947ACFB5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8C2-7CED-4D18-943C-B178B847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3240"/>
            <a:ext cx="17543160" cy="13690440"/>
            <a:chOff x="-8410320" y="32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932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32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10" y="0"/>
                  </a:moveTo>
                  <a:arcTo wR="10800" hR="10800" stAng="-5396755" swAng="53967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10" y="0"/>
                  </a:moveTo>
                  <a:arcTo wR="10800" hR="10800" stAng="-5396755" swAng="5396755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8D5A-65C8-4CFE-8C64-4E60245A3F3B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59800" y="1461960"/>
            <a:ext cx="16903800" cy="10794600"/>
            <a:chOff x="-7759800" y="1461960"/>
            <a:chExt cx="1690380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9327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59800" y="146196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8" y="185"/>
                  </a:moveTo>
                  <a:arcTo wR="10800" hR="10800" stAng="-4763526" swAng="47635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8" y="185"/>
                  </a:moveTo>
                  <a:arcTo wR="10800" hR="10800" stAng="-4763526" swAng="476352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FAB1-9C24-4DBD-BA23-1C45C7A28D72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ffffcc"/>
            </a:gs>
            <a:gs pos="100000">
              <a:srgbClr val="00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0" y="476280"/>
            <a:ext cx="9144000" cy="6308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ButtonPour">
              <a:avLst>
                <a:gd name="adj1" fmla="val 10800000"/>
                <a:gd name="adj2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CS Diwany1 S_U adorned."/>
              </a:rPr>
              <a:t>بسم الله الرحمن الرحيم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CS Diwany1 S_U adorned."/>
              <a:ea typeface="MCS Diwany1 S_U adorned.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901960" y="2133720"/>
            <a:ext cx="3232080" cy="4103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6F0-4DEF-4367-ABD6-880734785C7E}" type="slidenum">
              <a:t>1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00"/>
            </a:gs>
            <a:gs pos="50000">
              <a:srgbClr val="fefefe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0" y="476280"/>
            <a:ext cx="9144000" cy="6308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ButtonPour">
              <a:avLst>
                <a:gd name="adj1" fmla="val 10800000"/>
                <a:gd name="adj2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CS Diwany1 S_U adorned."/>
              </a:rPr>
              <a:t>بسم الله الرحمن الرحيم</a:t>
            </a:r>
            <a:endParaRPr b="0" lang="en-US" sz="96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CS Diwany1 S_U adorned."/>
              <a:ea typeface="MCS Diwany1 S_U adorned.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901960" y="2133720"/>
            <a:ext cx="3232080" cy="410364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7093080" y="4075200"/>
            <a:ext cx="1584360" cy="86508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2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2" y="20200"/>
                </a:lnTo>
                <a:lnTo>
                  <a:pt x="38152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2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2" h="21600">
                <a:moveTo>
                  <a:pt x="12770" y="3794"/>
                </a:moveTo>
                <a:lnTo>
                  <a:pt x="26783" y="10800"/>
                </a:lnTo>
                <a:lnTo>
                  <a:pt x="12770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مهارات الأساس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35280" y="6165720"/>
            <a:ext cx="1584360" cy="621000"/>
          </a:xfrm>
          <a:custGeom>
            <a:avLst/>
            <a:gdLst>
              <a:gd name="textAreaLeft" fmla="*/ 39960 w 1584360"/>
              <a:gd name="textAreaRight" fmla="*/ 1544400 w 158436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55089" h="21600">
                <a:moveTo>
                  <a:pt x="0" y="0"/>
                </a:moveTo>
                <a:lnTo>
                  <a:pt x="55089" y="0"/>
                </a:lnTo>
                <a:lnTo>
                  <a:pt x="55089" y="21600"/>
                </a:lnTo>
                <a:lnTo>
                  <a:pt x="0" y="21600"/>
                </a:lnTo>
                <a:close/>
              </a:path>
              <a:path fill="lightenLess" w="55089" h="21600">
                <a:moveTo>
                  <a:pt x="0" y="0"/>
                </a:moveTo>
                <a:lnTo>
                  <a:pt x="55089" y="0"/>
                </a:lnTo>
                <a:lnTo>
                  <a:pt x="53689" y="1400"/>
                </a:lnTo>
                <a:lnTo>
                  <a:pt x="1400" y="1400"/>
                </a:lnTo>
                <a:close/>
              </a:path>
              <a:path fill="darken" w="55089" h="21600">
                <a:moveTo>
                  <a:pt x="55089" y="0"/>
                </a:moveTo>
                <a:lnTo>
                  <a:pt x="55089" y="21600"/>
                </a:lnTo>
                <a:lnTo>
                  <a:pt x="53689" y="20200"/>
                </a:lnTo>
                <a:lnTo>
                  <a:pt x="53689" y="1400"/>
                </a:lnTo>
                <a:close/>
              </a:path>
              <a:path fill="darkenLess" w="55089" h="21600">
                <a:moveTo>
                  <a:pt x="550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689" y="20200"/>
                </a:lnTo>
                <a:close/>
              </a:path>
              <a:path fill="lighten" w="550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089" h="21600">
                <a:moveTo>
                  <a:pt x="20538" y="3794"/>
                </a:moveTo>
                <a:lnTo>
                  <a:pt x="34551" y="10800"/>
                </a:lnTo>
                <a:lnTo>
                  <a:pt x="20538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تخاذ القر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5372280"/>
            <a:ext cx="1584360" cy="86508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2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2" y="20200"/>
                </a:lnTo>
                <a:lnTo>
                  <a:pt x="38152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2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2" h="21600">
                <a:moveTo>
                  <a:pt x="12770" y="3794"/>
                </a:moveTo>
                <a:lnTo>
                  <a:pt x="26783" y="10800"/>
                </a:lnTo>
                <a:lnTo>
                  <a:pt x="12770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حل المشكل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1280" y="5372280"/>
            <a:ext cx="1584360" cy="86508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2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2" y="20200"/>
                </a:lnTo>
                <a:lnTo>
                  <a:pt x="38152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2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2" h="21600">
                <a:moveTo>
                  <a:pt x="12770" y="3794"/>
                </a:moveTo>
                <a:lnTo>
                  <a:pt x="26783" y="10800"/>
                </a:lnTo>
                <a:lnTo>
                  <a:pt x="12770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فكير الناقد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11280" y="4148280"/>
            <a:ext cx="1584360" cy="865080"/>
          </a:xfrm>
          <a:custGeom>
            <a:avLst/>
            <a:gdLst>
              <a:gd name="textAreaLeft" fmla="*/ 55800 w 1584360"/>
              <a:gd name="textAreaRight" fmla="*/ 1528560 w 1584360"/>
              <a:gd name="textAreaTop" fmla="*/ 55800 h 865080"/>
              <a:gd name="textAreaBottom" fmla="*/ 809280 h 865080"/>
            </a:gdLst>
            <a:ahLst/>
            <a:rect l="textAreaLeft" t="textAreaTop" r="textAreaRight" b="textAreaBottom"/>
            <a:pathLst>
              <a:path w="39552" h="21600">
                <a:moveTo>
                  <a:pt x="0" y="0"/>
                </a:moveTo>
                <a:lnTo>
                  <a:pt x="39552" y="0"/>
                </a:lnTo>
                <a:lnTo>
                  <a:pt x="39552" y="21600"/>
                </a:lnTo>
                <a:lnTo>
                  <a:pt x="0" y="21600"/>
                </a:lnTo>
                <a:close/>
              </a:path>
              <a:path fill="lightenLess" w="39552" h="21600">
                <a:moveTo>
                  <a:pt x="0" y="0"/>
                </a:moveTo>
                <a:lnTo>
                  <a:pt x="39552" y="0"/>
                </a:lnTo>
                <a:lnTo>
                  <a:pt x="38152" y="1400"/>
                </a:lnTo>
                <a:lnTo>
                  <a:pt x="1400" y="1400"/>
                </a:lnTo>
                <a:close/>
              </a:path>
              <a:path fill="darken" w="39552" h="21600">
                <a:moveTo>
                  <a:pt x="39552" y="0"/>
                </a:moveTo>
                <a:lnTo>
                  <a:pt x="39552" y="21600"/>
                </a:lnTo>
                <a:lnTo>
                  <a:pt x="38152" y="20200"/>
                </a:lnTo>
                <a:lnTo>
                  <a:pt x="38152" y="1400"/>
                </a:lnTo>
                <a:close/>
              </a:path>
              <a:path fill="darkenLess" w="39552" h="21600">
                <a:moveTo>
                  <a:pt x="39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52" y="20200"/>
                </a:lnTo>
                <a:close/>
              </a:path>
              <a:path fill="lighten" w="39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52" h="21600">
                <a:moveTo>
                  <a:pt x="12770" y="3794"/>
                </a:moveTo>
                <a:lnTo>
                  <a:pt x="26783" y="10800"/>
                </a:lnTo>
                <a:lnTo>
                  <a:pt x="12770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حويل التركي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التقوي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EE7A-AAC5-4D8F-9845-1CD1CF0939EB}" type="slidenum">
              <a:t>2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99ffcc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01480" y="907920"/>
            <a:ext cx="759960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8" name=""/>
          <p:cNvSpPr txBox="1"/>
          <p:nvPr/>
        </p:nvSpPr>
        <p:spPr>
          <a:xfrm rot="5400000">
            <a:off x="-2368800" y="3240000"/>
            <a:ext cx="4697280" cy="1042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لمهارات الأساسي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                             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1480" y="6418440"/>
            <a:ext cx="790416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 rot="5400000">
            <a:off x="6603120" y="3550320"/>
            <a:ext cx="412920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33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33"/>
              </a:solidFill>
              <a:latin typeface="Arial"/>
              <a:ea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1480" y="1413000"/>
            <a:ext cx="7904160" cy="5005440"/>
          </a:xfrm>
          <a:prstGeom prst="rect">
            <a:avLst/>
          </a:prstGeom>
          <a:solidFill>
            <a:srgbClr val="ff6699"/>
          </a:solidFill>
          <a:ln w="57240">
            <a:solidFill>
              <a:srgbClr val="0000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931D-B4DB-4D6A-92EF-8B872F924078}" type="slidenum">
              <a:t>3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99"/>
            </a:gs>
            <a:gs pos="50000">
              <a:srgbClr val="ffffff"/>
            </a:gs>
            <a:gs pos="100000">
              <a:srgbClr val="ff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4360" y="836640"/>
            <a:ext cx="741672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"/>
          <p:cNvSpPr txBox="1"/>
          <p:nvPr/>
        </p:nvSpPr>
        <p:spPr>
          <a:xfrm rot="5400000">
            <a:off x="-2024640" y="3401280"/>
            <a:ext cx="4697280" cy="720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لتحويل التركيب التقويم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4360" y="6418440"/>
            <a:ext cx="772128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5400000">
            <a:off x="6782040" y="3550320"/>
            <a:ext cx="41292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1341360"/>
            <a:ext cx="7721280" cy="5041800"/>
          </a:xfrm>
          <a:prstGeom prst="rect">
            <a:avLst/>
          </a:prstGeom>
          <a:solidFill>
            <a:srgbClr val="00ffff"/>
          </a:solidFill>
          <a:ln w="57240">
            <a:solidFill>
              <a:srgbClr val="0000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AC07-92F0-40E1-92E3-669E01AED643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a13a"/>
            </a:gs>
            <a:gs pos="50000">
              <a:srgbClr val="ffffcc"/>
            </a:gs>
            <a:gs pos="100000">
              <a:srgbClr val="c6a13a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907920"/>
            <a:ext cx="698508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-2431440" y="3447360"/>
            <a:ext cx="543744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حل المشكلات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9640" y="6418440"/>
            <a:ext cx="786600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"/>
          <p:cNvSpPr txBox="1"/>
          <p:nvPr/>
        </p:nvSpPr>
        <p:spPr>
          <a:xfrm rot="5400000">
            <a:off x="6603120" y="3550320"/>
            <a:ext cx="412920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1376280"/>
            <a:ext cx="7848720" cy="504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FE96-3781-47B3-8FEC-CFE00DF9931B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cc"/>
            </a:gs>
            <a:gs pos="50000">
              <a:srgbClr val="9999ff"/>
            </a:gs>
            <a:gs pos="100000">
              <a:srgbClr val="00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11280" y="836640"/>
            <a:ext cx="8064360" cy="504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 rot="5400000">
            <a:off x="-2025720" y="3473280"/>
            <a:ext cx="469728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لتفكير الناقد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6418440"/>
            <a:ext cx="806436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 rot="5400000">
            <a:off x="6853320" y="3550320"/>
            <a:ext cx="4129200" cy="523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341360"/>
            <a:ext cx="8064360" cy="504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غالطات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نطق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ناقضات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منطق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1413000"/>
            <a:ext cx="100800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437080" y="1413000"/>
            <a:ext cx="1079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ميز افتراض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على غي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أساس مغالط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منطق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87640" y="1413000"/>
            <a:ext cx="1297080" cy="44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عرف عل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جزاء الحوا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نتيج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أسباب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92360" y="1413000"/>
            <a:ext cx="1224000" cy="44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دعاء الحقيق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/ القيم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ه علاقة / لي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له علاق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1413000"/>
            <a:ext cx="115236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5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تعرف عل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5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سلس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5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وارات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raditional Arab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0" y="1413000"/>
            <a:ext cx="1079640" cy="44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الحكم عل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raditional Arabic"/>
              </a:rPr>
              <a:t>قوة الحوار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raditional Arabic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B2DF-344D-40A7-BA9B-537D97A2F665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50000">
              <a:srgbClr val="ffccff"/>
            </a:gs>
            <a:gs pos="100000">
              <a:srgbClr val="cc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33"/>
                </a:solidFill>
                <a:latin typeface="Arial"/>
              </a:rPr>
              <a:t>خريطة مهارات وعمليات التفكير</a:t>
            </a:r>
            <a:r>
              <a:rPr b="1" lang="ar-SA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93640" y="907920"/>
            <a:ext cx="750744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 rot="5400000">
            <a:off x="-2097000" y="3473640"/>
            <a:ext cx="469728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Arial Black"/>
              </a:rPr>
              <a:t>اتخاذالقرار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640" y="6418440"/>
            <a:ext cx="7866000" cy="395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2   11   10   9   8   7   6   5   4   3   2   1   </a:t>
            </a: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روض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5400000">
            <a:off x="6603120" y="3550320"/>
            <a:ext cx="4129200" cy="524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مــواد الـــــدراســـيـــ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3640" y="1413000"/>
            <a:ext cx="7723440" cy="4968720"/>
          </a:xfrm>
          <a:prstGeom prst="rect">
            <a:avLst/>
          </a:prstGeom>
          <a:solidFill>
            <a:srgbClr val="ffffcc"/>
          </a:solidFill>
          <a:ln w="57240">
            <a:solidFill>
              <a:srgbClr val="ffff00"/>
            </a:solidFill>
            <a:miter/>
          </a:ln>
          <a:effectLst>
            <a:outerShdw dist="52300" dir="17036436" blurRad="0" rotWithShape="0">
              <a:srgbClr val="99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تحديد الهدف            تحديد الهدف                   تحديد الهد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التعرف على البدائل    التعرف على البدائل          اكتشاف البدائ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تحليل البدائل            تحليل البدائل                  تحليل البدائ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ترتيب البدائل           ترتيب البدائل                 اختيار البديل الأنس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تقويم البدائل            اختيار البديل الأنس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 rtl="1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33"/>
                </a:solidFill>
                <a:latin typeface="Times New Roman"/>
                <a:cs typeface="Traditional Arabic"/>
              </a:rPr>
              <a:t>اختيار البديل الأنس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6000" y="5877000"/>
            <a:ext cx="1169640" cy="541440"/>
          </a:xfrm>
          <a:custGeom>
            <a:avLst/>
            <a:gdLst>
              <a:gd name="textAreaLeft" fmla="*/ 34920 w 1169640"/>
              <a:gd name="textAreaRight" fmla="*/ 1134720 w 1169640"/>
              <a:gd name="textAreaTop" fmla="*/ 34920 h 541440"/>
              <a:gd name="textAreaBottom" fmla="*/ 506520 h 541440"/>
            </a:gdLst>
            <a:ahLst/>
            <a:rect l="textAreaLeft" t="textAreaTop" r="textAreaRight" b="textAreaBottom"/>
            <a:pathLst>
              <a:path w="46645" h="21600">
                <a:moveTo>
                  <a:pt x="0" y="0"/>
                </a:moveTo>
                <a:lnTo>
                  <a:pt x="46645" y="0"/>
                </a:lnTo>
                <a:lnTo>
                  <a:pt x="46645" y="21600"/>
                </a:lnTo>
                <a:lnTo>
                  <a:pt x="0" y="21600"/>
                </a:lnTo>
                <a:close/>
              </a:path>
              <a:path fill="lightenLess" w="46645" h="21600">
                <a:moveTo>
                  <a:pt x="0" y="0"/>
                </a:moveTo>
                <a:lnTo>
                  <a:pt x="46645" y="0"/>
                </a:lnTo>
                <a:lnTo>
                  <a:pt x="45245" y="1400"/>
                </a:lnTo>
                <a:lnTo>
                  <a:pt x="1400" y="1400"/>
                </a:lnTo>
                <a:close/>
              </a:path>
              <a:path fill="darken" w="46645" h="21600">
                <a:moveTo>
                  <a:pt x="46645" y="0"/>
                </a:moveTo>
                <a:lnTo>
                  <a:pt x="46645" y="21600"/>
                </a:lnTo>
                <a:lnTo>
                  <a:pt x="45245" y="20200"/>
                </a:lnTo>
                <a:lnTo>
                  <a:pt x="45245" y="1400"/>
                </a:lnTo>
                <a:close/>
              </a:path>
              <a:path fill="darkenLess" w="46645" h="21600">
                <a:moveTo>
                  <a:pt x="466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245" y="20200"/>
                </a:lnTo>
                <a:close/>
              </a:path>
              <a:path fill="lighten" w="466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645" h="21600">
                <a:moveTo>
                  <a:pt x="16316" y="3794"/>
                </a:moveTo>
                <a:lnTo>
                  <a:pt x="30329" y="10800"/>
                </a:lnTo>
                <a:lnTo>
                  <a:pt x="16316" y="17806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ود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4C69-E754-48CD-8984-3FA30746E795}" type="slidenum">
              <a:t>7</a:t>
            </a:fld>
          </a:p>
        </p:txBody>
      </p:sp>
    </p:spTree>
  </p:cSld>
  <p:transition>
    <p:fad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1T11:58:30Z</dcterms:created>
  <dc:creator/>
  <dc:description>
</dc:description>
  <dc:language>en-US</dc:language>
  <cp:lastModifiedBy>abwaad</cp:lastModifiedBy>
  <dcterms:modified xsi:type="dcterms:W3CDTF">2002-12-25T08:11:02Z</dcterms:modified>
  <cp:revision>556</cp:revision>
  <dc:subject/>
  <dc:title>عرض مشروع المدرسة الرائدة</dc:title>
</cp:coreProperties>
</file>